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FDA-242F-43CF-B2E8-AC62010F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32C-D7F2-4A00-AFC0-59C3368F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63A-BC77-41E8-802B-86E3775F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723-0C6B-4AD4-8C9C-827969C2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85E5-30A9-4CBB-ABF7-7E224CA2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2214-AE38-4A6B-AE23-0797ACFA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614C-EF55-411E-83D0-D8809F83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9021-0B6F-4DA4-AD1C-A2545738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E710-F0EE-45A4-9455-95E55D56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0D55-5835-4071-97D0-1114E7B2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9952-DB60-4FDB-ACE9-38E46D1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B85-F5B2-4BAB-A259-84B1D56C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A9F8-7CAC-4F85-B478-0197C3DB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BA57-7E7C-4D07-97E6-0056A1D9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F199-7BA1-45E4-8111-C4D9128C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05DE-FC4F-4133-A4BE-4E14BF42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C721-CBB1-4980-B7BE-0829354C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5D6-7C03-4496-9423-9722000B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F95-8CC5-42AD-B691-FE598B1A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B13-1214-409F-B4C7-75654008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F21-AD18-4C78-A8A7-087E9AE6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875-701D-4E27-9EF2-86C44A4A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126-173F-4038-971E-5D964B65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1D9-1022-4080-A88C-76A7B3F8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15CB-03ED-4221-9C91-C7D386E4367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8564-4D1B-43B9-8BBB-3E898C4B9F9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73120" y="30240"/>
            <a:ext cx="790092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786040" y="4857840"/>
            <a:ext cx="6114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  ученик 7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A”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ласса Котерев Дмитр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гималаи.jpg"/>
          <p:cNvPicPr/>
          <p:nvPr/>
        </p:nvPicPr>
        <p:blipFill>
          <a:blip r:embed="rId1"/>
          <a:stretch/>
        </p:blipFill>
        <p:spPr>
          <a:xfrm>
            <a:off x="285840" y="3143160"/>
            <a:ext cx="450036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гималаи 2.jpg"/>
          <p:cNvPicPr/>
          <p:nvPr/>
        </p:nvPicPr>
        <p:blipFill>
          <a:blip r:embed="rId2"/>
          <a:stretch/>
        </p:blipFill>
        <p:spPr>
          <a:xfrm>
            <a:off x="5143680" y="3143160"/>
            <a:ext cx="3714480" cy="33577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9" descr=""/>
          <p:cNvPicPr/>
          <p:nvPr/>
        </p:nvPicPr>
        <p:blipFill>
          <a:blip r:embed="rId3"/>
          <a:stretch/>
        </p:blipFill>
        <p:spPr>
          <a:xfrm>
            <a:off x="171360" y="262080"/>
            <a:ext cx="880128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208080" y="360360"/>
            <a:ext cx="8667720" cy="322416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як.jpg"/>
          <p:cNvPicPr/>
          <p:nvPr/>
        </p:nvPicPr>
        <p:blipFill>
          <a:blip r:embed="rId2"/>
          <a:stretch/>
        </p:blipFill>
        <p:spPr>
          <a:xfrm>
            <a:off x="214200" y="3571920"/>
            <a:ext cx="449604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5" descr="як 2.jpg"/>
          <p:cNvPicPr/>
          <p:nvPr/>
        </p:nvPicPr>
        <p:blipFill>
          <a:blip r:embed="rId3"/>
          <a:stretch/>
        </p:blipFill>
        <p:spPr>
          <a:xfrm>
            <a:off x="4929120" y="3786120"/>
            <a:ext cx="403884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508960" cy="287028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снежн коза.jpg"/>
          <p:cNvPicPr/>
          <p:nvPr/>
        </p:nvPicPr>
        <p:blipFill>
          <a:blip r:embed="rId2"/>
          <a:stretch/>
        </p:blipFill>
        <p:spPr>
          <a:xfrm>
            <a:off x="285840" y="3500280"/>
            <a:ext cx="4214880" cy="289728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снежн коза 2.jpg"/>
          <p:cNvPicPr/>
          <p:nvPr/>
        </p:nvPicPr>
        <p:blipFill>
          <a:blip r:embed="rId3"/>
          <a:stretch/>
        </p:blipFill>
        <p:spPr>
          <a:xfrm>
            <a:off x="478620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103320" y="225360"/>
            <a:ext cx="8613720" cy="29876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снежный барс.jpg"/>
          <p:cNvPicPr/>
          <p:nvPr/>
        </p:nvPicPr>
        <p:blipFill>
          <a:blip r:embed="rId2"/>
          <a:stretch/>
        </p:blipFill>
        <p:spPr>
          <a:xfrm>
            <a:off x="214200" y="3500280"/>
            <a:ext cx="4143600" cy="305280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5" descr="снежный барс 2.jpg"/>
          <p:cNvPicPr/>
          <p:nvPr/>
        </p:nvPicPr>
        <p:blipFill>
          <a:blip r:embed="rId3"/>
          <a:stretch/>
        </p:blipFill>
        <p:spPr>
          <a:xfrm>
            <a:off x="464328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8864640" cy="235908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4" descr="ламы.jpg"/>
          <p:cNvPicPr/>
          <p:nvPr/>
        </p:nvPicPr>
        <p:blipFill>
          <a:blip r:embed="rId2"/>
          <a:stretch/>
        </p:blipFill>
        <p:spPr>
          <a:xfrm>
            <a:off x="285840" y="2714760"/>
            <a:ext cx="4038480" cy="389556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5" descr="лама 2.jpg"/>
          <p:cNvPicPr/>
          <p:nvPr/>
        </p:nvPicPr>
        <p:blipFill>
          <a:blip r:embed="rId3"/>
          <a:stretch/>
        </p:blipFill>
        <p:spPr>
          <a:xfrm>
            <a:off x="4714920" y="2714760"/>
            <a:ext cx="414324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637480" cy="3444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кондор.JPG"/>
          <p:cNvPicPr/>
          <p:nvPr/>
        </p:nvPicPr>
        <p:blipFill>
          <a:blip r:embed="rId2"/>
          <a:stretch/>
        </p:blipFill>
        <p:spPr>
          <a:xfrm>
            <a:off x="214200" y="3714840"/>
            <a:ext cx="4357800" cy="26748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кондора.jpg"/>
          <p:cNvPicPr/>
          <p:nvPr/>
        </p:nvPicPr>
        <p:blipFill>
          <a:blip r:embed="rId3"/>
          <a:stretch/>
        </p:blipFill>
        <p:spPr>
          <a:xfrm>
            <a:off x="4786200" y="3786120"/>
            <a:ext cx="403884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1-13T16:15:08Z</dcterms:modified>
  <cp:revision>13</cp:revision>
  <dc:subject/>
  <dc:title>Животные горных областей</dc:title>
</cp:coreProperties>
</file>